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EA9-E009-4E33-9D70-FBE02E66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239-A429-4767-BEC9-C451ACC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DB7-6C0A-4279-986C-14792BD5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A10-E28A-49B7-97BF-04C512C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C56-D5A5-46EC-BC15-EB20042F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BE5-EA22-4FC4-A3C7-45F9066A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4DF-E71F-4C17-A55F-AC12FC5A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2D6-CCB7-4171-9F79-F2B6591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59C-CA16-41C1-9A3F-6F09BF8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2ED-95E2-4E68-BCF2-7B23CAF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CF8-5243-4066-9C42-AA23819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6D5-5589-43B9-917F-90419A4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E3E-8742-4CBE-81AB-9FE55672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alk in the Dese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–ed and –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and Doubling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4012780000[1]"/>
          <p:cNvPicPr/>
          <p:nvPr/>
        </p:nvPicPr>
        <p:blipFill>
          <a:blip r:embed="rId1"/>
          <a:stretch/>
        </p:blipFill>
        <p:spPr>
          <a:xfrm>
            <a:off x="380880" y="304920"/>
            <a:ext cx="2332080" cy="18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Pj04094810000[1]"/>
          <p:cNvPicPr/>
          <p:nvPr/>
        </p:nvPicPr>
        <p:blipFill>
          <a:blip r:embed="rId2"/>
          <a:stretch/>
        </p:blipFill>
        <p:spPr>
          <a:xfrm>
            <a:off x="6095880" y="457200"/>
            <a:ext cx="2667240" cy="171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What do you know about reading these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rain</a:t>
            </a:r>
            <a:r>
              <a:rPr b="0" lang="en-US" sz="66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rain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oth of these have a base word and an 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ans it happened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ans it is happening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876920" y="1600200"/>
            <a:ext cx="914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724280" y="266688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3520" y="4648320"/>
            <a:ext cx="7617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2578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he Doubl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ase w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= shop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shop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consonant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s doubled before the endings were added.  This happens in short-vowel words such as shop that end in just one con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one-syllable word ends with one vowel and one consonant, double the final con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362320" y="2286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362320" y="29718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34120" y="228600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34120" y="2971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Dropp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base wor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= lik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lik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 was dropped before these endings were added.  This happens if a base word ends with e, and the ending starts with a vow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base word ends with a sneaky e, drop the e and add –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981080" y="2438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981080" y="312408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62520" y="236232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62520" y="31240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just add –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–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double the final conson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rrect answe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 the final conson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22860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629400" y="2286000"/>
            <a:ext cx="609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68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68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just add –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double the final conson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drop the sneaky 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sneaky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34340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867280" y="205740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Add –s, -ed, and –ing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Tell why or if the spelling 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33520" y="2209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49568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40080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Add –s, -ed, and –ing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Tell why or if the spelling 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e 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-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grab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gra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gra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c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excite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excit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exci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face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fac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fa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r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talk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talk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tal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st a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533520" y="20574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49568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400800" y="16765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3520" y="2971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533520" y="39625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457200" y="4876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53352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38:09Z</dcterms:created>
  <dc:creator> </dc:creator>
  <dc:description/>
  <dc:language>en-US</dc:language>
  <cp:lastModifiedBy>Laura McDow</cp:lastModifiedBy>
  <dcterms:modified xsi:type="dcterms:W3CDTF">2010-09-02T15:33:37Z</dcterms:modified>
  <cp:revision>3</cp:revision>
  <dc:subject/>
  <dc:title>A Walk in the Desert Spelling Words</dc:title>
</cp:coreProperties>
</file>